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BE31-3B8B-42CC-97D3-6EBF9518651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BF82-A349-48EA-AAF1-03973C9FCFE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8B4-8C88-4E38-8E4A-B324A47E38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19D8-5F15-4A3F-A943-73B2C76F28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3793-BB7D-441D-A085-3758FFD91D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CBF3-6BEB-4FEB-B2EB-9F6D5D6D6E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059-F94C-4666-8595-54242D65B4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D352-0D10-4081-9342-188E5F6717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9A1-2027-4BF8-BE2C-D3ADC55803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5E5-B304-4888-AE51-9C50A8C1A1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0B8-6067-495B-B568-3BEBC82367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B4F-0583-4BA5-AF12-7B481E85FD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FF92-3B63-4FB4-B4B9-7097AD6AD3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FA5B-1166-46AF-8142-54FE0C3B7F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2AE2-B3DA-42F4-95FA-82D3AE553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E46F-8C54-44FB-8E2C-02ECB5826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588F-DEB0-40F4-818E-B9669C1C1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38DF-A07A-40FB-8E36-3333CC1E4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89B7-5681-45FD-98B0-158B4EBE9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9207-0B3E-49BE-A655-5CA778E74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6F2C-9327-480F-A662-6CE8EB02B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392E-5694-4294-BAB8-80B7A5194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E5A5-5BF5-472A-9A8F-5A39632D0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06F1-82D3-4DD2-AF81-D799F7DA5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DBCE-203B-4CC1-809D-34533C6D9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5629-0733-4EFC-AA95-74825F7B5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16BA-87A0-47B2-AEDF-65D3BC63AE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Picture 2" descr="D:\바탕 화면\새 폴더\식약처_국_좌우.jpg"/>
          <p:cNvPicPr/>
          <p:nvPr/>
        </p:nvPicPr>
        <p:blipFill>
          <a:blip r:embed="rId2"/>
          <a:stretch/>
        </p:blipFill>
        <p:spPr>
          <a:xfrm>
            <a:off x="6659640" y="6237360"/>
            <a:ext cx="2097000" cy="43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을 사용해야 합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템플릿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양식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제목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접수번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”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입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발표시간은 </a:t>
            </a:r>
            <a:r>
              <a:rPr b="0" lang="en-US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20</a:t>
            </a:r>
            <a:r>
              <a:rPr b="0" lang="ko-KR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분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이므로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작성시 참고바랍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※ </a:t>
            </a:r>
            <a:r>
              <a:rPr b="0" lang="ko-KR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본 페이지는 발표자료에서 삭제하여야 합니다</a:t>
            </a: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017</a:t>
            </a: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선정 발표평가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413000"/>
          <a:ext cx="7345440" cy="452268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4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105264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1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장으로 작성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7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 제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접 수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천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</cp:lastModifiedBy>
  <dcterms:modified xsi:type="dcterms:W3CDTF">2016-10-28T04:58:16Z</dcterms:modified>
  <cp:revision>50</cp:revision>
  <dc:subject/>
  <dc:title>2006년도 식품의약품안전청 공개발표 선정평가    ℹ 사 업 명 :   ℹ 과 제 명 :   ℹ 연 구 비 :   ℹ 신청기관 :   ℹ 주관연구책임자 :</dc:title>
</cp:coreProperties>
</file>