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71CE-E2CD-4DD1-B5EA-FBB3ABD7E5F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2EE1-E568-4974-B55E-E503A3068AD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A330-8ED4-468B-9C92-98F94610103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DDAC-B989-4EF6-A0BB-70966EDA4BE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B5C7-4573-4891-992B-70101C95B6E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3194-F3C8-4B7E-ACB5-AAA3603BAF9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B6EF-38E8-483A-9B9F-00B901C8EA4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2CDB-2262-4D20-9114-0EB0288995B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BA94-73B4-4B83-8342-BB9B089BB46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8458-6C60-437A-A53C-E245D5D133D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E14C-6D61-431F-A9ED-1D6D5C0CE85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7DFB-F9BC-4087-9BFD-9A580E9A882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4EF9-39A2-47B1-A98A-F5B0011FABF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7404-D735-45CC-9ACF-38B607F9445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504B-863A-4E33-8942-67547A028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AFAE-6D9D-4F49-AB51-DC87E1F58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F21E-03E8-4F39-BF1E-70C867946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EA93-3255-4265-B957-19D8C7C6FF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DC28-548A-40D2-9D59-0CB1E3B347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076E-9A90-485E-AAEA-615EBEE63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1922-D7B2-4F31-B23F-AFB8CF303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B29A-D39A-4816-9DFE-CCF4BFA9E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E5EA-DCAB-4D68-96AE-F2A8B88F7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EDC3-4985-496D-B6DB-B9B15C286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5213-B036-4DD6-9075-BD15B5874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D44A-3E01-4177-AC65-BDADEBEFF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DEDA-777C-4B8B-AAC9-5581950439B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파일을 사용해야 합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템플릿을 변경할 수 없습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양식을 변경할 수 없습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파일제목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접수번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”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입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◎ </a:t>
            </a:r>
            <a:r>
              <a:rPr b="0" lang="ko-KR" sz="2400" spc="-1" strike="noStrike">
                <a:solidFill>
                  <a:srgbClr val="ff0000"/>
                </a:solidFill>
                <a:latin typeface="휴먼엑스포"/>
                <a:ea typeface="휴먼엑스포"/>
              </a:rPr>
              <a:t>발표시간은 </a:t>
            </a:r>
            <a:r>
              <a:rPr b="0" lang="en-US" sz="2400" spc="-1" strike="noStrike">
                <a:solidFill>
                  <a:srgbClr val="ff0000"/>
                </a:solidFill>
                <a:latin typeface="휴먼엑스포"/>
                <a:ea typeface="휴먼엑스포"/>
              </a:rPr>
              <a:t>20</a:t>
            </a:r>
            <a:r>
              <a:rPr b="0" lang="ko-KR" sz="2400" spc="-1" strike="noStrike">
                <a:solidFill>
                  <a:srgbClr val="ff0000"/>
                </a:solidFill>
                <a:latin typeface="휴먼엑스포"/>
                <a:ea typeface="휴먼엑스포"/>
              </a:rPr>
              <a:t>분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이므로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작성시 참고바랍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휴먼엑스포"/>
                <a:ea typeface="휴먼엑스포"/>
              </a:rPr>
              <a:t>※ </a:t>
            </a:r>
            <a:r>
              <a:rPr b="0" lang="ko-KR" sz="2400" spc="-1" strike="noStrike">
                <a:solidFill>
                  <a:srgbClr val="3333cc"/>
                </a:solidFill>
                <a:latin typeface="휴먼엑스포"/>
                <a:ea typeface="휴먼엑스포"/>
              </a:rPr>
              <a:t>본 페이지는 발표자료에서 삭제하여야 합니다</a:t>
            </a:r>
            <a:r>
              <a:rPr b="0" lang="en-US" sz="2400" spc="-1" strike="noStrike">
                <a:solidFill>
                  <a:srgbClr val="3333cc"/>
                </a:solidFill>
                <a:latin typeface="휴먼엑스포"/>
                <a:ea typeface="휴먼엑스포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549360"/>
            <a:ext cx="8642160" cy="1458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018</a:t>
            </a:r>
            <a:r>
              <a:rPr b="0" lang="ko-KR" sz="32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년 식약처 용역연구개발과제 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선정 발표평가자료 작성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0000" y="1413000"/>
          <a:ext cx="7345440" cy="452268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4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86"/>
          <p:cNvSpPr/>
          <p:nvPr/>
        </p:nvSpPr>
        <p:spPr>
          <a:xfrm>
            <a:off x="7020000" y="105264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(1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장으로 작성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09480" y="549360"/>
            <a:ext cx="7925040" cy="576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과 제 번 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접 수 번 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  <a:ea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  <a:ea typeface="굴림"/>
              </a:rPr>
              <a:t>: </a:t>
            </a:r>
            <a:r>
              <a:rPr b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  <a:ea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  <a:ea typeface="굴림"/>
              </a:rPr>
              <a:t>: </a:t>
            </a:r>
            <a:r>
              <a:rPr b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천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</cp:lastModifiedBy>
  <dcterms:modified xsi:type="dcterms:W3CDTF">2018-06-07T08:01:54Z</dcterms:modified>
  <cp:revision>52</cp:revision>
  <dc:subject/>
  <dc:title>2006년도 식품의약품안전청 공개발표 선정평가    ℹ 사 업 명 :   ℹ 과 제 명 :   ℹ 연 구 비 :   ℹ 신청기관 :   ℹ 주관연구책임자 :</dc:title>
</cp:coreProperties>
</file>