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DAFB-55EE-404D-A9DB-DF3809FB122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3C8D-7E41-48AE-B361-577E1D92131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B9EA-4F20-4D3F-B934-3639EA6573E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D77B-C5D1-483B-A793-35AB682A630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2BE1-272A-4889-830E-DE658109CCC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A04E-7CCB-410D-99E9-F46495ADAFF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AB93-C771-4FB6-AB2A-AC4298AA486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FDA5-704A-43D9-856E-C59F112241B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A3D7-F8BB-4837-AC37-600D65D7A3C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FCA9-4EE4-4274-BE7F-FC210A5329F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AA36-FA72-4E77-93D9-03D2ECC0D54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8854-02AC-4DA0-BEF3-5C43BAAF78F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9408-0C0D-45A2-B318-95BA9F1C472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02BD-73C3-4C11-B7A6-75A665491DF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9837-0BEF-4E13-844C-389827910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586A-16E5-453C-B9A4-E7C4D62601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AB5E-2A69-4650-9BA5-5EE614754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4169-25BB-471F-9F1B-54C50D95E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9C5F-6AB5-4523-949C-7A301B7C6E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BE36-6992-4785-BE5A-4AF8E4383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4DE8-DFEB-4BF4-ACB9-DB330DB58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7537-9B62-401B-B063-407879B6A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B72C-BE0A-49F9-831B-D99C46E34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E10E-F4EB-497A-8E8F-6607584F22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E61D-572D-4187-BCDB-482BCBCAFE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78F6-DB2C-491E-A517-D8815AFDF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342F-A3DB-4468-B207-6199868F84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468360" y="2205000"/>
            <a:ext cx="8207280" cy="43196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제공 파일양식 사용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구성 및 기본 양식은 변경할 수 없음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(*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폰트 및 배경 등은 변경 가능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의 페이지 수 제한 없음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애니메이션 효과는 구현되지 않을 수 있으므로 가급적 자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수 폰트 및 표 그림의 깨짐을 방지하기 위하여 파일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DF 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환 제출 권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맑은 고딕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자료 파일명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 접수번호”로 작성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◎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평가 시간은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5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0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므로 발표자료 작성시 참고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5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질의응답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5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평가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질의응답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※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제별 평가시간은 용역연구개발과제 목록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붙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)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참조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※ </a:t>
            </a:r>
            <a:r>
              <a:rPr b="1" i="1" lang="ko-KR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본 페이지는 발표자료에서 삭제해 주시기 바랍니다</a:t>
            </a:r>
            <a:r>
              <a:rPr b="1" i="1" lang="en-US" sz="2400" spc="-1" strike="noStrike">
                <a:solidFill>
                  <a:srgbClr val="0000ff"/>
                </a:solidFill>
                <a:latin typeface="맑은 고딕"/>
                <a:ea typeface="맑은 고딕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50920" y="549360"/>
            <a:ext cx="8642160" cy="1458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019</a:t>
            </a: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년 식약처 용역연구개발과제 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선정평가 발표자료 작성시 주의사항</a:t>
            </a:r>
            <a:endParaRPr b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44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참고하여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1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장으로 작성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  <a:ea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  <a:ea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  <a:ea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과 제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  <a:ea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접 수 번 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  <a:ea typeface="굴림"/>
              </a:rPr>
              <a:t>협동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  <a:ea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  <a:ea typeface="굴림"/>
              </a:rPr>
              <a:t>협동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  <a:ea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  <a:ea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  <a:ea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  <a:ea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</cp:lastModifiedBy>
  <dcterms:modified xsi:type="dcterms:W3CDTF">2018-10-19T01:33:09Z</dcterms:modified>
  <cp:revision>63</cp:revision>
  <dc:subject/>
  <dc:title>2006년도 식품의약품안전청 공개발표 선정평가    ℹ 사 업 명 :   ℹ 과 제 명 :   ℹ 연 구 비 :   ℹ 신청기관 :   ℹ 주관연구책임자 :</dc:title>
</cp:coreProperties>
</file>