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8232-F556-419B-B820-BB7DDD906C9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EB17-6994-47E5-B3A1-5E158C1C489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2C7C-8B9D-4AF7-A258-DD9EF725B32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4247-9AE6-48BD-A4A7-E23E8ED75D2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696E-1FDD-4AD1-923A-87064B8C3F3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9845-E150-48D6-A860-64A03F0BFAC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7165-8947-4F65-AB4F-BA1B2F2862A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49D9-134A-452E-A0F1-892F825B82D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EFB8-5F96-4F77-9050-C2AA180CD3A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9B084-2CE9-48FD-A2F8-22A7FF90E3F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DBDD-42F3-46C8-90BC-9E3D85F255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89FC-D463-4215-9B4F-B152095C5ED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CF02-C0C8-4E50-8CD5-F10953785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D3B8-9496-4C9A-B070-BD24594D2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1FB06-6CC2-4211-A5B3-4FF372DDE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2D14-05F9-434E-8060-7A4BF08AB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4FEDD-C5B8-446A-A757-9905410924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E4AF-4DE9-4A3C-BD86-2DBA1C9B9D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96BB-370D-4D75-88CE-C9E27D5E04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4B3B-99A3-4A4F-9DD7-D1BF54BAEC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114F-797B-417E-AFDF-D528928778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DC48-C7C4-460F-9F57-108BA006CD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0827-7FBF-4A65-B248-A97494977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657B-A0C1-442C-824A-6D2E5AEBA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50E2-2668-4715-B0CD-5DC20A667F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0E8C-DA71-4E75-98F9-1F32A8ECAF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EF70-4292-41AD-8AA8-D6799C8832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A455-207E-473A-9194-8AE2ADB55C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CDAA-3A95-4BD5-8ADC-D10EF6322D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7DB6-23DC-44E2-95B9-E8DA3C413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3A0B-FBBA-4945-B094-8A3395BF6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7B4F-9C4E-4928-90A7-D9EEB94DA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1F2B-14C2-43AD-9404-82C81A84A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097C6-581F-493A-9863-CF55CBE10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331F-5E77-44D5-9CF6-B6C912822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0F29-228E-4191-BE95-F90DE7D04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079C-A82B-43C5-8BE4-AD8D626DBD7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C:\Users\KFDA\AppData\Local\Temp\BNZ.56fcfd84251a34c\식약처_국_좌우.jpg"/>
          <p:cNvPicPr/>
          <p:nvPr/>
        </p:nvPicPr>
        <p:blipFill>
          <a:blip r:embed="rId2"/>
          <a:stretch/>
        </p:blipFill>
        <p:spPr>
          <a:xfrm>
            <a:off x="6759720" y="6237360"/>
            <a:ext cx="2160360" cy="3603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6885000" y="6048000"/>
            <a:ext cx="1905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54EB-6730-4B6E-9F9D-76022A6EF1F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파일을 사용해야 합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템플릿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양식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파일제목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발표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과제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접수번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”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입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시간은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5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분이므로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작성시 참고바랍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※ </a:t>
            </a:r>
            <a:r>
              <a:rPr b="0" lang="ko-KR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본 페이지는 발표자료에서 삭제하여야 합니다</a:t>
            </a:r>
            <a:r>
              <a:rPr b="0" lang="en-US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50920" y="549360"/>
            <a:ext cx="8642160" cy="1458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019</a:t>
            </a:r>
            <a:r>
              <a:rPr b="0" lang="ko-KR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년 식약처 출연연구개발과제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선정 발표평가자료 작성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비 규모 및 비목별 예산편성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86"/>
          <p:cNvSpPr/>
          <p:nvPr/>
        </p:nvSpPr>
        <p:spPr>
          <a:xfrm>
            <a:off x="6948360" y="1413000"/>
            <a:ext cx="1451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Rectangle 8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18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직사각형 7"/>
          <p:cNvSpPr/>
          <p:nvPr/>
        </p:nvSpPr>
        <p:spPr>
          <a:xfrm>
            <a:off x="1116000" y="119700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연차별연구개발비 총괄표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55640" y="1700280"/>
          <a:ext cx="7561440" cy="4199040"/>
        </p:xfrm>
        <a:graphic>
          <a:graphicData uri="http://schemas.openxmlformats.org/drawingml/2006/table">
            <a:tbl>
              <a:tblPr/>
              <a:tblGrid>
                <a:gridCol w="431640"/>
                <a:gridCol w="720720"/>
                <a:gridCol w="779760"/>
                <a:gridCol w="515880"/>
                <a:gridCol w="504720"/>
                <a:gridCol w="1090800"/>
                <a:gridCol w="703080"/>
                <a:gridCol w="703440"/>
                <a:gridCol w="704880"/>
                <a:gridCol w="703080"/>
                <a:gridCol w="703440"/>
              </a:tblGrid>
              <a:tr h="209520">
                <a:tc row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비목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4" row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세목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5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2"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합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한양신명조"/>
                          <a:ea typeface="한양신명조"/>
                        </a:rPr>
                        <a:t>YYYY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240">
                <a:tc rowSpan="16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직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접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내부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미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외부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미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지급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학생인건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연구장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․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재료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연구활동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연구과제추진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연구수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위탁연구개발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직접비 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gridSpan="5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간접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 gridSpan="5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연구비 총액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320" marR="133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업화 계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해당시 작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타사항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해당시 작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요청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내용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성과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효과 및 연구성과 활용계획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타사항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668160" y="762120"/>
            <a:ext cx="7772400" cy="560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세사업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 제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 수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협동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부출연금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민간부담금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의 필요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사각형 2"/>
          <p:cNvSpPr/>
          <p:nvPr/>
        </p:nvSpPr>
        <p:spPr>
          <a:xfrm>
            <a:off x="684360" y="765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의 목표 및 내용 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의 추진전략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∙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법 및 추진체계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 성과의 활용방안 및 기대효과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관 현황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86"/>
          <p:cNvSpPr/>
          <p:nvPr/>
        </p:nvSpPr>
        <p:spPr>
          <a:xfrm>
            <a:off x="7093080" y="1413000"/>
            <a:ext cx="145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8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26920" y="1700280"/>
          <a:ext cx="7345440" cy="4248000"/>
        </p:xfrm>
        <a:graphic>
          <a:graphicData uri="http://schemas.openxmlformats.org/drawingml/2006/table">
            <a:tbl>
              <a:tblPr/>
              <a:tblGrid>
                <a:gridCol w="608040"/>
                <a:gridCol w="905040"/>
                <a:gridCol w="863640"/>
                <a:gridCol w="1617480"/>
                <a:gridCol w="1128960"/>
                <a:gridCol w="1128600"/>
                <a:gridCol w="1093680"/>
              </a:tblGrid>
              <a:tr h="399960">
                <a:tc gridSpan="3">
                  <a:txBody>
                    <a:bodyPr lIns="50040" rIns="50040" tIns="83520" bIns="835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구 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50040" marR="500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주관연구기관명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협동연구기관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협동연구기관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212760">
                <a:tc rowSpan="6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ㅇ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정부출연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기업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담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정부 외 출연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합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 rowSpan="6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ㅇ차 연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정부출연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기업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담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정부 외 출연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합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rowSpan="6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총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정부출연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기업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부담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현물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소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정부 외 출연금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한양신명조"/>
                        </a:rPr>
                        <a:t>합계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136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13680" marR="1368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8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직사각형 7"/>
          <p:cNvSpPr/>
          <p:nvPr/>
        </p:nvSpPr>
        <p:spPr>
          <a:xfrm>
            <a:off x="1116000" y="1197000"/>
            <a:ext cx="712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연차별 정부출연금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기업부담금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현금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현물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및 정부 외 출연금 배분 내용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해당시 작성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mfds</cp:lastModifiedBy>
  <dcterms:modified xsi:type="dcterms:W3CDTF">2018-10-21T23:58:39Z</dcterms:modified>
  <cp:revision>75</cp:revision>
  <dc:subject/>
  <dc:title>2006년도 식품의약품안전청 공개발표 선정평가    ℹ 사 업 명 :   ℹ 과 제 명 :   ℹ 연 구 비 :   ℹ 신청기관 :   ℹ 주관연구책임자 :</dc:title>
</cp:coreProperties>
</file>